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6ED-AC22-41E1-B2CA-53CEF2E7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4B9-3558-42F5-AA1D-AAD70247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3FC-EC0D-4F6C-9473-72889CAE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4A5-C11A-45C2-AFE4-FFA1CF44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38E8-7436-4EE9-BD34-AEC78785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F63E-DAA0-44EE-8DD2-F94CD775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C05A-98E8-4C63-865B-F0362AD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EA57-6B59-44EF-8E90-97EE441C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2FBE-1229-4AFB-BF20-CB1B5A1F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1827-7AB4-4439-A583-DE7851DE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2B90-1890-479E-A1BD-E2B16042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D46-152E-4894-BE86-D0AFE038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3D20-0019-443C-A7DA-681006B6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BF2A-5CBC-410B-99FD-015BAB37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BD2C-7785-4AD8-91D9-F4C0DF5C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7D15-7F18-4E3A-A06F-BEBB9EB6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1D58-93E0-4D42-9CC3-B8483381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5CE-7213-4679-B82C-831F554B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2C0-6E75-4C00-98B9-B976A638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D1D-F7E7-41FB-B6BD-D0802343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75B-D1FF-4862-89E2-10E4E327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CDA-54EF-4CC2-A1E5-798EDA67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42E-557A-40B5-9738-6F10FE9E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37B-FEAF-4381-9BA9-A92C373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6081-15BE-4D7A-BE11-06B6B1ADF2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BB35-3247-454D-868C-DE29CEF8A7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Total Instructional </a:t>
            </a:r>
            <a:br>
              <a:rPr sz="4600"/>
            </a:b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Alignment</a:t>
            </a:r>
            <a:br>
              <a:rPr sz="4600"/>
            </a:b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Gran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, December 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id we write the Total Instructional Alignment Gra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77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formation from the O.U.R Perkins TIA Grant Collaboration Mee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mber 6, 2009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included in the  Total Instructional Alignment Gra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cus Ski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are 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01:24Z</dcterms:created>
  <dc:creator>jgreen</dc:creator>
  <dc:description/>
  <dc:language>en-US</dc:language>
  <cp:lastModifiedBy>jgreen</cp:lastModifiedBy>
  <dcterms:modified xsi:type="dcterms:W3CDTF">2009-12-09T13:14:55Z</dcterms:modified>
  <cp:revision>4</cp:revision>
  <dc:subject/>
  <dc:title>Total Instructional Alignment Grant</dc:title>
</cp:coreProperties>
</file>